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41F-0D3E-4112-B818-77258F1B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1F0-9041-4384-BC1D-8AC7756A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841-E22A-4903-B86E-DB2FC16F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C50-AAAD-4C66-912D-6F710EB1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23B-ECB9-44FC-AB82-B604AAB7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4CC-F73D-4D21-A467-ABB83C1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143-F818-4CBE-B855-11E7D19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3DF-35BA-4DBA-91D5-63F18F3A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0FE-E7AD-4EE6-BA6F-2F88D3FB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754-EE4E-4373-99B5-1E7A9C28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537-1F63-4ED8-8177-F06082A7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862-A6F5-40C5-BF47-7EBEBBA6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AA73-7571-4483-B19B-5DE385F8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mingo@ercot.com" TargetMode="External"/><Relationship Id="rId2" Type="http://schemas.openxmlformats.org/officeDocument/2006/relationships/hyperlink" Target="mailto:dzake@erco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ail Market Gui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Up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9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ail Market Guide Task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obsolete inform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o reflect current pract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 format;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ize the revision process for the R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DFC-2B00-4483-BA8A-9164A82B21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ail Market Guide Task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group has exchanged many emails and has had three meet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5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4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6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0FE-9FBD-42B1-84C1-D5688B1D26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ail Market Guide Task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Comple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9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report to 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15/0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ine for TF and WG se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s to ERCOT for inclusion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G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18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and posting of RMG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12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t RMS discussion of RMG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/10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MS discussion and vote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G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9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 vote on RMG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1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date of RMG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811-1DE9-485F-97E2-95F43E529E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ail Market Guide Task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nja Mingo (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mingo@ercot.c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na Zake (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zake@ercot.c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28E-4844-4C92-906C-A7AD4FB190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2:23:35Z</dcterms:created>
  <dc:creator>dzake</dc:creator>
  <dc:description/>
  <dc:language>en-US</dc:language>
  <cp:lastModifiedBy>S. McClendon</cp:lastModifiedBy>
  <dcterms:modified xsi:type="dcterms:W3CDTF">2005-03-02T19:03:17Z</dcterms:modified>
  <cp:revision>10</cp:revision>
  <dc:subject/>
  <dc:title>Retail Market Guide Reformatting Project</dc:title>
</cp:coreProperties>
</file>